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2B1B-0FF8-4378-9607-37CF0E438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CD4F-2F5F-4BD4-9BC1-9EB2C19CA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CF4F-A02C-4FFB-B91C-6F404B4CF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EDD4-5FEE-4213-A50B-955EEB92B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C594-3824-4496-9CBF-B74630F2A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6917-1F7A-4EB5-8114-3FB538827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161E-671F-4363-B4A9-444B49A62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D7DF-E6BD-40B7-A030-21E458085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C5E5-04EE-4DB4-AB3C-60DB184CE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6EA1-2764-4005-BED6-C3F63EA80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B94C-87FD-44EC-8F30-058829912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C57C-1C4D-49F4-89E2-BC66C4673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E152AD-44A7-44DE-8214-059EE3A2952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00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SE MUEVEN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5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984240" y="90360"/>
              <a:ext cx="81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0099"/>
                  </a:solidFill>
                  <a:latin typeface="Arial"/>
                </a:rPr>
                <a:t>Así se mueven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39 Grupo"/>
          <p:cNvGrpSpPr/>
          <p:nvPr/>
        </p:nvGrpSpPr>
        <p:grpSpPr>
          <a:xfrm>
            <a:off x="1979640" y="2060640"/>
            <a:ext cx="5257800" cy="792000"/>
            <a:chOff x="1979640" y="2060640"/>
            <a:chExt cx="5257800" cy="792000"/>
          </a:xfrm>
        </p:grpSpPr>
        <p:sp>
          <p:nvSpPr>
            <p:cNvPr id="55" name="Freeform 13"/>
            <p:cNvSpPr/>
            <p:nvPr/>
          </p:nvSpPr>
          <p:spPr>
            <a:xfrm>
              <a:off x="1979640" y="256392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1">
                  <a:moveTo>
                    <a:pt x="0" y="0"/>
                  </a:moveTo>
                  <a:lnTo>
                    <a:pt x="14601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1979640" y="25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7236000" y="25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643640" y="206064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" h="1399">
                  <a:moveTo>
                    <a:pt x="0" y="0"/>
                  </a:moveTo>
                  <a:lnTo>
                    <a:pt x="0" y="1398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38 Grupo"/>
          <p:cNvGrpSpPr/>
          <p:nvPr/>
        </p:nvGrpSpPr>
        <p:grpSpPr>
          <a:xfrm>
            <a:off x="3564000" y="836640"/>
            <a:ext cx="2087640" cy="1224000"/>
            <a:chOff x="3564000" y="836640"/>
            <a:chExt cx="2087640" cy="1224000"/>
          </a:xfrm>
        </p:grpSpPr>
        <p:sp>
          <p:nvSpPr>
            <p:cNvPr id="60" name="AutoShape 10"/>
            <p:cNvSpPr/>
            <p:nvPr/>
          </p:nvSpPr>
          <p:spPr>
            <a:xfrm>
              <a:off x="3564000" y="836640"/>
              <a:ext cx="208764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635640" y="980640"/>
              <a:ext cx="194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LOS MÚSCULOS AL CONTRAERSE PRODUCEN MOVIMIENT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40 Grupo"/>
          <p:cNvGrpSpPr/>
          <p:nvPr/>
        </p:nvGrpSpPr>
        <p:grpSpPr>
          <a:xfrm>
            <a:off x="900000" y="2851200"/>
            <a:ext cx="2087640" cy="1079280"/>
            <a:chOff x="900000" y="2851200"/>
            <a:chExt cx="2087640" cy="1079280"/>
          </a:xfrm>
        </p:grpSpPr>
        <p:sp>
          <p:nvSpPr>
            <p:cNvPr id="63" name="AutoShape 12"/>
            <p:cNvSpPr/>
            <p:nvPr/>
          </p:nvSpPr>
          <p:spPr>
            <a:xfrm>
              <a:off x="900000" y="2851200"/>
              <a:ext cx="2087640" cy="10792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971280" y="321300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OLUNTA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41 Grupo"/>
          <p:cNvGrpSpPr/>
          <p:nvPr/>
        </p:nvGrpSpPr>
        <p:grpSpPr>
          <a:xfrm>
            <a:off x="6227640" y="2851200"/>
            <a:ext cx="2089440" cy="1079280"/>
            <a:chOff x="6227640" y="2851200"/>
            <a:chExt cx="2089440" cy="1079280"/>
          </a:xfrm>
        </p:grpSpPr>
        <p:sp>
          <p:nvSpPr>
            <p:cNvPr id="66" name="AutoShape 11">
              <a:hlinkClick r:id="rId2" action="ppaction://hlinksldjump"/>
            </p:cNvPr>
            <p:cNvSpPr/>
            <p:nvPr/>
          </p:nvSpPr>
          <p:spPr>
            <a:xfrm>
              <a:off x="6227640" y="2851200"/>
              <a:ext cx="2089440" cy="10792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300000" y="2997000"/>
              <a:ext cx="201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VOLUNTA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(SIST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LOCOMOT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22"/>
          <p:cNvSpPr/>
          <p:nvPr/>
        </p:nvSpPr>
        <p:spPr>
          <a:xfrm>
            <a:off x="3851280" y="609300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46 Grupo"/>
          <p:cNvGrpSpPr/>
          <p:nvPr/>
        </p:nvGrpSpPr>
        <p:grpSpPr>
          <a:xfrm>
            <a:off x="611280" y="4653000"/>
            <a:ext cx="1800000" cy="1077840"/>
            <a:chOff x="611280" y="4653000"/>
            <a:chExt cx="1800000" cy="1077840"/>
          </a:xfrm>
        </p:grpSpPr>
        <p:sp>
          <p:nvSpPr>
            <p:cNvPr id="70" name="AutoShape 23">
              <a:hlinkClick r:id="rId3" action="ppaction://hlinksldjump"/>
            </p:cNvPr>
            <p:cNvSpPr/>
            <p:nvPr/>
          </p:nvSpPr>
          <p:spPr>
            <a:xfrm>
              <a:off x="61128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25">
              <a:hlinkClick r:id="rId4" action="ppaction://hlinksldjump"/>
            </p:cNvPr>
            <p:cNvSpPr/>
            <p:nvPr/>
          </p:nvSpPr>
          <p:spPr>
            <a:xfrm>
              <a:off x="611280" y="4798800"/>
              <a:ext cx="180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RTEBRADOS SIN EXOESQUELE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45 Grupo"/>
          <p:cNvGrpSpPr/>
          <p:nvPr/>
        </p:nvGrpSpPr>
        <p:grpSpPr>
          <a:xfrm>
            <a:off x="2700360" y="4653000"/>
            <a:ext cx="1800360" cy="1077840"/>
            <a:chOff x="2700360" y="4653000"/>
            <a:chExt cx="1800360" cy="1077840"/>
          </a:xfrm>
        </p:grpSpPr>
        <p:sp>
          <p:nvSpPr>
            <p:cNvPr id="73" name="AutoShape 3">
              <a:hlinkClick r:id="rId5" action="ppaction://hlinksldjump"/>
            </p:cNvPr>
            <p:cNvSpPr/>
            <p:nvPr/>
          </p:nvSpPr>
          <p:spPr>
            <a:xfrm>
              <a:off x="2700360" y="4653000"/>
              <a:ext cx="180036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28">
              <a:hlinkClick r:id="rId6" action="ppaction://hlinksldjump"/>
            </p:cNvPr>
            <p:cNvSpPr/>
            <p:nvPr/>
          </p:nvSpPr>
          <p:spPr>
            <a:xfrm>
              <a:off x="2771640" y="499248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RTRÓPO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44 Grupo"/>
          <p:cNvGrpSpPr/>
          <p:nvPr/>
        </p:nvGrpSpPr>
        <p:grpSpPr>
          <a:xfrm>
            <a:off x="4788000" y="4653000"/>
            <a:ext cx="1800000" cy="1077840"/>
            <a:chOff x="4788000" y="4653000"/>
            <a:chExt cx="1800000" cy="1077840"/>
          </a:xfrm>
        </p:grpSpPr>
        <p:sp>
          <p:nvSpPr>
            <p:cNvPr id="76" name="AutoShape 2">
              <a:hlinkClick r:id="rId7" action="ppaction://hlinksldjump"/>
            </p:cNvPr>
            <p:cNvSpPr/>
            <p:nvPr/>
          </p:nvSpPr>
          <p:spPr>
            <a:xfrm>
              <a:off x="478800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31">
              <a:hlinkClick r:id="rId8" action="ppaction://hlinksldjump"/>
            </p:cNvPr>
            <p:cNvSpPr/>
            <p:nvPr/>
          </p:nvSpPr>
          <p:spPr>
            <a:xfrm>
              <a:off x="4859280" y="501336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QUINODER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43 Grupo"/>
          <p:cNvGrpSpPr/>
          <p:nvPr/>
        </p:nvGrpSpPr>
        <p:grpSpPr>
          <a:xfrm>
            <a:off x="6875640" y="4653000"/>
            <a:ext cx="1800000" cy="1077840"/>
            <a:chOff x="6875640" y="4653000"/>
            <a:chExt cx="1800000" cy="1077840"/>
          </a:xfrm>
        </p:grpSpPr>
        <p:sp>
          <p:nvSpPr>
            <p:cNvPr id="79" name="AutoShape 1">
              <a:hlinkClick r:id="rId9" action="ppaction://hlinksldjump"/>
            </p:cNvPr>
            <p:cNvSpPr/>
            <p:nvPr/>
          </p:nvSpPr>
          <p:spPr>
            <a:xfrm>
              <a:off x="687564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34">
              <a:hlinkClick r:id="rId10" action="ppaction://hlinksldjump"/>
            </p:cNvPr>
            <p:cNvSpPr/>
            <p:nvPr/>
          </p:nvSpPr>
          <p:spPr>
            <a:xfrm>
              <a:off x="7020000" y="5013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VERTEB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42 Grupo"/>
          <p:cNvGrpSpPr/>
          <p:nvPr/>
        </p:nvGrpSpPr>
        <p:grpSpPr>
          <a:xfrm>
            <a:off x="1474920" y="3933720"/>
            <a:ext cx="6338880" cy="720720"/>
            <a:chOff x="1474920" y="3933720"/>
            <a:chExt cx="6338880" cy="720720"/>
          </a:xfrm>
        </p:grpSpPr>
        <p:sp>
          <p:nvSpPr>
            <p:cNvPr id="82" name="Freeform 24"/>
            <p:cNvSpPr/>
            <p:nvPr/>
          </p:nvSpPr>
          <p:spPr>
            <a:xfrm>
              <a:off x="1474920" y="43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4">
                  <a:moveTo>
                    <a:pt x="0" y="803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63528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572472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781236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1476360" y="4365720"/>
              <a:ext cx="6336000" cy="1440"/>
            </a:xfrm>
            <a:custGeom>
              <a:avLst/>
              <a:gdLst>
                <a:gd name="textAreaLeft" fmla="*/ 0 w 6336000"/>
                <a:gd name="textAreaRight" fmla="*/ 6336360 w 6336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600" h="1">
                  <a:moveTo>
                    <a:pt x="0" y="0"/>
                  </a:moveTo>
                  <a:lnTo>
                    <a:pt x="17599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7236000" y="3933720"/>
              <a:ext cx="1440" cy="4320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" h="1201">
                  <a:moveTo>
                    <a:pt x="0" y="0"/>
                  </a:moveTo>
                  <a:lnTo>
                    <a:pt x="0" y="120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6"/>
          <p:cNvSpPr/>
          <p:nvPr/>
        </p:nvSpPr>
        <p:spPr>
          <a:xfrm>
            <a:off x="971640" y="1419120"/>
            <a:ext cx="7272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n en los órganos inter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de ello son los movimientos del coraz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ovimientos involu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3087720" cy="3959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372360" y="3924360"/>
            <a:ext cx="25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movimiento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corazón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ombean la sangre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todo el organ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4466880" y="3973680"/>
            <a:ext cx="191124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6"/>
          <p:cNvSpPr/>
          <p:nvPr/>
        </p:nvSpPr>
        <p:spPr>
          <a:xfrm>
            <a:off x="971640" y="1557360"/>
            <a:ext cx="72723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leva a cabo el sistema locomo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movimientos de desplazamiento en el ani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ovimientos volu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6"/>
          <p:cNvSpPr/>
          <p:nvPr/>
        </p:nvSpPr>
        <p:spPr>
          <a:xfrm>
            <a:off x="826920" y="1628640"/>
            <a:ext cx="7272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forman parte de la pared 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ovimientos producen deformaciones en el ani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00000" y="9079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invertebrados sin exoesquel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395280" y="335772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Al relajar sus músculos, el calamar deja entrar agua en su cuerp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50920" y="4724280"/>
            <a:ext cx="28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Al contraer su musculatura, expulsa un chorro de agua que hace desplazars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ni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2550960" y="4233960"/>
            <a:ext cx="20304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2725560" y="5349960"/>
            <a:ext cx="18194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artróp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6516720" y="2997360"/>
            <a:ext cx="26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os múscu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los artrópodos están unidos al exoesquele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50920" y="2708280"/>
            <a:ext cx="29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 contracción de estos músculos produc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vimiento de part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exoesqueleto (en este caso las alas), produciendo movimient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71640" y="14209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unidos al exoesqueleto articulado, por su cara inter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2286000" y="4325760"/>
            <a:ext cx="1782720" cy="10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H="1">
            <a:off x="5608800" y="4078440"/>
            <a:ext cx="1326960" cy="13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equinoder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1547640" y="2193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443640" y="298620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a presión del agua proyecta los pies ambulacrales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exteri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20000" y="46432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 estrella se despl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076720" y="2360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ies ambulac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971640" y="14209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asociados a un sistema de tubos y ampollas llenos de agua (sistema ambulacr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4760640" y="2706840"/>
            <a:ext cx="64908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5682960" y="4024440"/>
            <a:ext cx="841320" cy="12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H="1" flipV="1">
            <a:off x="6130440" y="4812840"/>
            <a:ext cx="90828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5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4535640" cy="453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39640" y="486900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os múscu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contraen y tiran de los hu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771640" y="35002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s extremidad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mueven y el animal se desplaz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971640" y="142092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anclados a las piezas del esqueleto inter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2556000" y="5229360"/>
            <a:ext cx="163188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4932360" y="4076640"/>
            <a:ext cx="93816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44:59Z</dcterms:modified>
  <cp:revision>17</cp:revision>
  <dc:subject/>
  <dc:title>Presentación de PowerPoint</dc:title>
</cp:coreProperties>
</file>